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749-F40E-4381-95A9-D23177F6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listed partners in section 17 have no relationship that qualified for any of the three samples (the couple sample, the Udry sample, or the Morris sample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listed partners in section 17 did not have at least one relationship listed in the Section 19 Udry Sam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5 subjects who reported sex with at least one partner in section 17 did not have any relationships in the Section 19 Morris Sam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½ of the relationships from section 17 that were eligible for the Couple sample have relationship records in section 19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E73-414D-4669-BED6-C47467C3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A26-9F65-42C2-922E-83F95DE0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AC8-D267-4C2E-99D3-2F8C25AC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A87-B96A-4CF4-9D00-99890E98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F43-8997-46D9-A036-6B7CDA9F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3233-4A62-4FE6-A25B-878CC70C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743-D7F6-4513-925B-1A90C2E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48B9-9295-4967-A595-AAFFB873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0AC-E879-4960-8B31-C13CB60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ECFD-FD26-4377-ADB0-84941F6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39D-181A-4318-838E-AD7706F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50B-3694-4270-AEDF-6677298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13B-440B-48DB-B710-F978236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1760-EA3D-4A00-89C9-4094D42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8BB6-7CD2-49EE-8CF6-EF7075C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289-C40A-4CB2-8208-1E57CDD3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C4F1-B934-45D3-9C5B-A7CF7B23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6DC-0B16-4C23-BEE9-A260D71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6CC-0513-4D60-9FAE-857E447A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596-B8EE-4662-A597-F722798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66D-4ACD-4AA0-AFBA-68E108A6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6D6-8C6A-46A2-8F84-8518FCD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4FB-6E16-4552-82C7-66C8D77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EAB-EDF9-484D-8412-977FE3CE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C5F-4908-43DF-BBE6-E3CE67D9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6188040"/>
            <a:ext cx="233208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88360" y="6095880"/>
            <a:ext cx="14270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0B79-7879-431F-A918-8228294F5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1636560" cy="81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6188040"/>
            <a:ext cx="2332080" cy="36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 Bk B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 B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  <a:p>
            <a:pPr lvl="2" marL="914400" algn="ctr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Futura Bk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 B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  <a:p>
            <a:pPr lvl="3" marL="1371600" algn="ctr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Futura Bk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4" marL="1828800" algn="ctr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Futura Bk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 B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scribing Cohabitation and Marriage in Add Heal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124080"/>
            <a:ext cx="662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 Pollard &amp; Kathleen Mullan 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olina Population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versity of North Carolina at Chapel 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riage and Cohabit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006640"/>
            <a:ext cx="74088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lationships in det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ents listed all sexual and romantic relationships that began or ended within the last 6 years (up to 48 relationshi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ed information was obtained about many of the relationships listed, with the relationships selected and questions determined by the three primary funded research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tailed Relationship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006640"/>
            <a:ext cx="7408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ples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heterosexu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age 18, 3 months or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Most Important Relationships”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list devised, based on “complex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current, duration, pregnancy,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Relationships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partners in past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193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Sexual Relationships Sample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=34,167 relationships*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* contributed by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1,038 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295280"/>
            <a:ext cx="4267440" cy="43434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2895480"/>
            <a:ext cx="198108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895480"/>
            <a:ext cx="3200400" cy="312444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4592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029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438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,4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687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,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002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4038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4449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,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671920"/>
            <a:ext cx="266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uples Sample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=4,010 relationships *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 contributed by 3,979 subject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4724280"/>
            <a:ext cx="30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ost Important Relationships Sample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=19,727 relationships*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* contributed by 11,738 su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 19: 36,310 Relationships Reported by 11,738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tailed Relationship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006640"/>
            <a:ext cx="7408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rticular samples for particular questions may be different, depending on how they overlap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obvious distinction to note is whether a question applies to “all” or only “current”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examine various types of relationships: cohabitations, marriages, marriages preceded by cohabitation, and dating relations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7600" y="530280"/>
            <a:ext cx="80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ed Wave III Relationships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1676520"/>
            <a:ext cx="39243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for all relationsh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o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Bank 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$500+ Purc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im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You Love Partn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Partner Lov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s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520" y="1249200"/>
            <a:ext cx="7696080" cy="0"/>
          </a:xfrm>
          <a:prstGeom prst="line">
            <a:avLst/>
          </a:prstGeom>
          <a:ln w="28440">
            <a:solidFill>
              <a:srgbClr val="e8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676520"/>
            <a:ext cx="403884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relationship 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sid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Other Residen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im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s Eaten Together /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action with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1676520"/>
                <a:gridCol w="220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(N = 2,7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 (N = 6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r (N = 9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$500+ 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Other Resid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143000"/>
          <a:ext cx="8229600" cy="4892760"/>
        </p:xfrm>
        <a:graphic>
          <a:graphicData uri="http://schemas.openxmlformats.org/drawingml/2006/table">
            <a:tbl>
              <a:tblPr/>
              <a:tblGrid>
                <a:gridCol w="1897200"/>
                <a:gridCol w="986400"/>
                <a:gridCol w="986760"/>
                <a:gridCol w="961200"/>
                <a:gridCol w="216000"/>
                <a:gridCol w="982080"/>
                <a:gridCol w="986400"/>
                <a:gridCol w="121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$500+ 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Other Res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olidation By Dur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1676520"/>
                <a:gridCol w="2209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 (N = 2,7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 (N = 63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r (N = 93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Love Partner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Loves You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Meals / week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atisfied w/Relationsh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imacy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85800" y="1143000"/>
          <a:ext cx="8229600" cy="4892760"/>
        </p:xfrm>
        <a:graphic>
          <a:graphicData uri="http://schemas.openxmlformats.org/drawingml/2006/table">
            <a:tbl>
              <a:tblPr/>
              <a:tblGrid>
                <a:gridCol w="1897200"/>
                <a:gridCol w="986400"/>
                <a:gridCol w="986760"/>
                <a:gridCol w="959760"/>
                <a:gridCol w="216000"/>
                <a:gridCol w="983520"/>
                <a:gridCol w="986400"/>
                <a:gridCol w="121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,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Love Partner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Loves You “A Lo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Meals / week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atisfied w/Relationsh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imacy By Duration (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5800" y="1447920"/>
          <a:ext cx="7162920" cy="286524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381240"/>
                <a:gridCol w="1218960"/>
                <a:gridCol w="121932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,1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9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5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,5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ng Exclus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(Cohabiting Fem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Over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Longitudinal Study of Adolescent Health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of social context influence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Health is a health and health behavior study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s 7-12 (1995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I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s 8-12 (1996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ve I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s 18-26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001-2002)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habiting Male Reports of Meals Eaten Together Per Week, by Du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638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5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habiting Female Reports of Having a Joint Bank Account with Partner, by Du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5638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,6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descriptives show us what we might expect 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habitation is prevalent: 60% of women, and 50% of men have cohabited by age 25 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onger relationship durations there is increasing consolidation, levels of intimacy, and commitment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erms of consolidation and intimacy, cohabitors report lower levels than marrieds on each measure at each duration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ransition to Adult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006640"/>
            <a:ext cx="740880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ents are ages 18-26 at Wave I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graphically dense ag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bearing and union 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,197 interviewed c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507 partner intervie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Health Wave III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riage and Cohabit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006640"/>
            <a:ext cx="74088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sources of information on marriage and cohabitation hist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mplete marriage / cohabitation hist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 to 3 marriages (N = 2,93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 to 10 cohabitations (N = 7,50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habitation” identified by the question: “Have you ever lived with someone in a marriage-like relationship for one month or more?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y into Cohabitation -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ry into Cohabitation -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try into Cohabi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important to note what minimum relationship duration is used to qualify as a “cohabitation” 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cohabitations are often assessed or considered only if they last 3 or more month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s a substantial impact on the identification of cohabitation</a:t>
            </a:r>
            <a:endParaRPr b="0" lang="en-US" sz="24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ry into Cohabitation by Gender and Minimum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403280"/>
          <a:ext cx="741996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3280"/>
                    <a:ext cx="741996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try into Cohabi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short term (less than 3 month) cohabitation experiences -- 15% of all cohabitation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re not simply ‘recently entered’ or immediately prior to marriage, but many are completed cohabitations (10%).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brief cohabitation experiences occur over all ages</a:t>
            </a: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 Bk BT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29:44Z</dcterms:created>
  <dc:creator>Pollard</dc:creator>
  <dc:description/>
  <dc:language>en-US</dc:language>
  <cp:lastModifiedBy>Hoda Makar</cp:lastModifiedBy>
  <dcterms:modified xsi:type="dcterms:W3CDTF">2003-11-10T01:53:15Z</dcterms:modified>
  <cp:revision>56</cp:revision>
  <dc:subject/>
  <dc:title>Describing Cohabitation and Marriage in Add Health</dc:title>
</cp:coreProperties>
</file>